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015-855C-4FAF-9078-ABF3522F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91A-0876-410B-BC47-87FB873B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1B1-F509-4F84-A907-6CADA739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472-7C36-4857-A829-E7622564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22F-8711-438F-8CFF-FD96072F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CBA-6642-4B49-8C38-B2629ED5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71C-26E6-4E38-B775-35D2E185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4ED-3B47-40CC-B673-6D12739A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AEE-60F4-4B39-855F-004979BF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DCE-C2E6-4373-BF91-A4F9823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D2B-B3F9-4F12-9B30-17E1FB2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8B1-3F82-45D9-A296-59C5D89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898-97CF-46BE-835A-95F252146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1 Od Baránkovho trón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Baránkovho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prýšti prú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ako krištáľ čis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š pri ňom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prúdom vody ži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ýva on každý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bôľ a ra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hojivý vždy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pre nás z veľk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rameň otvoril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ho neu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me mu z všetkých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2-05T18:28:42Z</dcterms:modified>
  <cp:revision>15</cp:revision>
  <dc:subject/>
  <dc:title>Je veľký náš Pán, on slávy je Kráľ Nech do všetkých strán  spev vrúcnych znie chvál.</dc:title>
</cp:coreProperties>
</file>